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B52-1020-40F5-B14E-E2DBD734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FF9-355C-432F-B6C4-792F5F5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B35-2EFF-401A-9B05-4A3C86B3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496-279D-4649-AF68-EAA832D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65F-A8ED-4077-B62E-80C76320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DF9-8046-4B60-94BD-5A29DC3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AC1B-44A1-470C-B801-C90892B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4CF-8C5F-4C63-9AD0-4153297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307D-EE98-414F-8730-40487210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0A7-4407-46EB-8A3D-D2F6397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C4A-2BC0-4332-B6C8-F51BD29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49A-8C74-47BD-A80D-16F3A2C9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DEDA-60E9-49B8-B3BE-AFE58A3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712-1480-42B1-AB60-25DE42F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9723-B3FB-431E-B718-C10C9E1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FCFD-DDAE-45B9-AF56-5D814AE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21EB-56A9-4FD2-AC3D-C91CD9DD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22E-A06C-42B0-BF62-1B7C11F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682-B04B-468D-9D63-260AE0C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C6D-4557-484F-A984-4E4B948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645-E72E-4134-80D4-B3F91395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B34-5A3A-4270-9272-E0B16D5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1DB-0C7A-46C1-A515-613E91A9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80E-5CC6-4E8D-B4F5-8190208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F1B0-AE01-461B-B71B-3B50A48CE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887-FE1E-4CD8-B473-3F2F8B407A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аботу выполнила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л. руководитель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ОШ № 9</a:t>
            </a:r>
            <a:br>
              <a:rPr sz="5400"/>
            </a:br>
            <a:r>
              <a:rPr b="1" lang="ru-RU" sz="6600" spc="-1" strike="noStrike" u="sng">
                <a:solidFill>
                  <a:srgbClr val="ffffb7"/>
                </a:solidFill>
                <a:uFillTx/>
                <a:latin typeface="Arial Black"/>
              </a:rPr>
              <a:t>Хасаншина Э.Р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рочь отведать и ключевой водицы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SAM_1945"/>
          <p:cNvPicPr/>
          <p:nvPr/>
        </p:nvPicPr>
        <p:blipFill>
          <a:blip r:embed="rId1"/>
          <a:stretch/>
        </p:blipFill>
        <p:spPr>
          <a:xfrm>
            <a:off x="0" y="907920"/>
            <a:ext cx="3200400" cy="371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AM_1948"/>
          <p:cNvPicPr/>
          <p:nvPr/>
        </p:nvPicPr>
        <p:blipFill>
          <a:blip r:embed="rId2"/>
          <a:stretch/>
        </p:blipFill>
        <p:spPr>
          <a:xfrm>
            <a:off x="2987640" y="907920"/>
            <a:ext cx="417672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AM_1969"/>
          <p:cNvPicPr/>
          <p:nvPr/>
        </p:nvPicPr>
        <p:blipFill>
          <a:blip r:embed="rId3"/>
          <a:stretch/>
        </p:blipFill>
        <p:spPr>
          <a:xfrm>
            <a:off x="5943600" y="907920"/>
            <a:ext cx="3200400" cy="36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AM_1949"/>
          <p:cNvPicPr/>
          <p:nvPr/>
        </p:nvPicPr>
        <p:blipFill>
          <a:blip r:embed="rId4"/>
          <a:stretch/>
        </p:blipFill>
        <p:spPr>
          <a:xfrm>
            <a:off x="0" y="3657600"/>
            <a:ext cx="361944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SAM_1950"/>
          <p:cNvPicPr/>
          <p:nvPr/>
        </p:nvPicPr>
        <p:blipFill>
          <a:blip r:embed="rId5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SAM_1943"/>
          <p:cNvPicPr/>
          <p:nvPr/>
        </p:nvPicPr>
        <p:blipFill>
          <a:blip r:embed="rId6"/>
          <a:stretch/>
        </p:blipFill>
        <p:spPr>
          <a:xfrm>
            <a:off x="2484360" y="3657600"/>
            <a:ext cx="386712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SAM_1966"/>
          <p:cNvPicPr/>
          <p:nvPr/>
        </p:nvPicPr>
        <p:blipFill>
          <a:blip r:embed="rId7"/>
          <a:stretch/>
        </p:blipFill>
        <p:spPr>
          <a:xfrm>
            <a:off x="1908000" y="1628640"/>
            <a:ext cx="54468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7632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ем без внимания духо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SAM_3257"/>
          <p:cNvPicPr/>
          <p:nvPr/>
        </p:nvPicPr>
        <p:blipFill>
          <a:blip r:embed="rId1"/>
          <a:stretch/>
        </p:blipFill>
        <p:spPr>
          <a:xfrm>
            <a:off x="0" y="1052640"/>
            <a:ext cx="4788000" cy="35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AM_2715"/>
          <p:cNvPicPr/>
          <p:nvPr/>
        </p:nvPicPr>
        <p:blipFill>
          <a:blip r:embed="rId2"/>
          <a:stretch/>
        </p:blipFill>
        <p:spPr>
          <a:xfrm>
            <a:off x="2411280" y="1881360"/>
            <a:ext cx="4699080" cy="352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AM_1420"/>
          <p:cNvPicPr/>
          <p:nvPr/>
        </p:nvPicPr>
        <p:blipFill>
          <a:blip r:embed="rId3"/>
          <a:stretch/>
        </p:blipFill>
        <p:spPr>
          <a:xfrm>
            <a:off x="4516560" y="3387600"/>
            <a:ext cx="4627440" cy="3470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5867280" y="1125360"/>
            <a:ext cx="302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50920" y="5734080"/>
            <a:ext cx="39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ие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социальн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SAM_3491"/>
          <p:cNvPicPr/>
          <p:nvPr/>
        </p:nvPicPr>
        <p:blipFill>
          <a:blip r:embed="rId1"/>
          <a:stretch/>
        </p:blipFill>
        <p:spPr>
          <a:xfrm>
            <a:off x="324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AM_3492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AM_3501"/>
          <p:cNvPicPr/>
          <p:nvPr/>
        </p:nvPicPr>
        <p:blipFill>
          <a:blip r:embed="rId3"/>
          <a:stretch/>
        </p:blipFill>
        <p:spPr>
          <a:xfrm>
            <a:off x="324000" y="3068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SAM_3500"/>
          <p:cNvPicPr/>
          <p:nvPr/>
        </p:nvPicPr>
        <p:blipFill>
          <a:blip r:embed="rId4"/>
          <a:stretch/>
        </p:blipFill>
        <p:spPr>
          <a:xfrm>
            <a:off x="4572000" y="306864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324000" y="621036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нимаемся общественно полезным труд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851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просто любим хорошо отдохну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4" descr="SAM_3405"/>
          <p:cNvPicPr/>
          <p:nvPr/>
        </p:nvPicPr>
        <p:blipFill>
          <a:blip r:embed="rId1"/>
          <a:stretch/>
        </p:blipFill>
        <p:spPr>
          <a:xfrm>
            <a:off x="324000" y="1052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AM_3456"/>
          <p:cNvPicPr/>
          <p:nvPr/>
        </p:nvPicPr>
        <p:blipFill>
          <a:blip r:embed="rId2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AM_3428"/>
          <p:cNvPicPr/>
          <p:nvPr/>
        </p:nvPicPr>
        <p:blipFill>
          <a:blip r:embed="rId3"/>
          <a:stretch/>
        </p:blipFill>
        <p:spPr>
          <a:xfrm>
            <a:off x="1116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91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ы близки к нашей цел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5229360"/>
            <a:ext cx="80071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НАМЕРЕНЫ ОСТАНАВЛ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484360" y="6021360"/>
            <a:ext cx="431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ДОСТИГНУТОМ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SAM_3244"/>
          <p:cNvPicPr/>
          <p:nvPr/>
        </p:nvPicPr>
        <p:blipFill>
          <a:blip r:embed="rId1"/>
          <a:stretch/>
        </p:blipFill>
        <p:spPr>
          <a:xfrm>
            <a:off x="1835280" y="1268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ЗОЖ –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счастливой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жизн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SAM_3509"/>
          <p:cNvPicPr/>
          <p:nvPr/>
        </p:nvPicPr>
        <p:blipFill>
          <a:blip r:embed="rId1"/>
          <a:stretch/>
        </p:blipFill>
        <p:spPr>
          <a:xfrm>
            <a:off x="2195640" y="306864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хотим бы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ДОРОВЫ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56000" y="4941720"/>
            <a:ext cx="4321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ы прямо ид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намеченной цел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SAM_2625"/>
          <p:cNvPicPr/>
          <p:nvPr/>
        </p:nvPicPr>
        <p:blipFill>
          <a:blip r:embed="rId1"/>
          <a:stretch/>
        </p:blipFill>
        <p:spPr>
          <a:xfrm>
            <a:off x="2627280" y="1413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ДОСТИЖЕНИЯ ЕЁ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565360"/>
            <a:ext cx="432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ЧТ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5445000"/>
            <a:ext cx="525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ЗДОРОВЬ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411280" y="4005360"/>
            <a:ext cx="4321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ТАК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3964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 ОТВЕТИТЬ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24000" y="333000"/>
            <a:ext cx="51847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Здоровье –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635280" y="1413000"/>
            <a:ext cx="187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это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11280" y="2637000"/>
            <a:ext cx="813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«состояние полного физического, душевного (психического) и социального благополучия, а не только отсутствие болезней и физических дефектов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йдемся по всем пунктам 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3716280"/>
            <a:ext cx="61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намного ближе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79280" y="2349360"/>
            <a:ext cx="73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Может, наша ц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195640" y="5157720"/>
            <a:ext cx="676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чем нам кажется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665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1 пункт –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физическ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SAM_1708"/>
          <p:cNvPicPr/>
          <p:nvPr/>
        </p:nvPicPr>
        <p:blipFill>
          <a:blip r:embed="rId1"/>
          <a:stretch/>
        </p:blipFill>
        <p:spPr>
          <a:xfrm>
            <a:off x="324000" y="76500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AM_1715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AM_2684"/>
          <p:cNvPicPr/>
          <p:nvPr/>
        </p:nvPicPr>
        <p:blipFill>
          <a:blip r:embed="rId3"/>
          <a:stretch/>
        </p:blipFill>
        <p:spPr>
          <a:xfrm>
            <a:off x="0" y="3141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AM_2826"/>
          <p:cNvPicPr/>
          <p:nvPr/>
        </p:nvPicPr>
        <p:blipFill>
          <a:blip r:embed="rId4"/>
          <a:stretch/>
        </p:blipFill>
        <p:spPr>
          <a:xfrm>
            <a:off x="2556000" y="3141720"/>
            <a:ext cx="35049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AM_2808"/>
          <p:cNvPicPr/>
          <p:nvPr/>
        </p:nvPicPr>
        <p:blipFill>
          <a:blip r:embed="rId5"/>
          <a:stretch/>
        </p:blipFill>
        <p:spPr>
          <a:xfrm>
            <a:off x="4572000" y="3141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1763640" y="621036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ак трудимся, так и отдых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аем ка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SAM_3089"/>
          <p:cNvPicPr/>
          <p:nvPr/>
        </p:nvPicPr>
        <p:blipFill>
          <a:blip r:embed="rId1"/>
          <a:stretch/>
        </p:blipFill>
        <p:spPr>
          <a:xfrm>
            <a:off x="539640" y="981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SAM_3090"/>
          <p:cNvPicPr/>
          <p:nvPr/>
        </p:nvPicPr>
        <p:blipFill>
          <a:blip r:embed="rId2"/>
          <a:stretch/>
        </p:blipFill>
        <p:spPr>
          <a:xfrm>
            <a:off x="4788000" y="2060640"/>
            <a:ext cx="3790800" cy="4392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012000" y="907920"/>
            <a:ext cx="18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ид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280" y="4941720"/>
            <a:ext cx="4608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 иногда и стои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 коньках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8796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2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71640" y="26028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душевное (психическое)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SAM_2611"/>
          <p:cNvPicPr/>
          <p:nvPr/>
        </p:nvPicPr>
        <p:blipFill>
          <a:blip r:embed="rId1"/>
          <a:stretch/>
        </p:blipFill>
        <p:spPr>
          <a:xfrm>
            <a:off x="324000" y="1341360"/>
            <a:ext cx="423864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AM_2613"/>
          <p:cNvPicPr/>
          <p:nvPr/>
        </p:nvPicPr>
        <p:blipFill>
          <a:blip r:embed="rId2"/>
          <a:stretch/>
        </p:blipFill>
        <p:spPr>
          <a:xfrm>
            <a:off x="457200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716360" y="1773360"/>
            <a:ext cx="396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Любим гулять по лесу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дышать свежим возду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755640" y="4869000"/>
            <a:ext cx="345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Кататься на санках…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и просто валяться на мягко-мягком снег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7:21:27Z</dcterms:created>
  <dc:creator>Sam</dc:creator>
  <dc:description/>
  <dc:language>en-US</dc:language>
  <cp:lastModifiedBy>school</cp:lastModifiedBy>
  <dcterms:modified xsi:type="dcterms:W3CDTF">2011-05-31T12:54:58Z</dcterms:modified>
  <cp:revision>6</cp:revision>
  <dc:subject/>
  <dc:title>Выбор ЗОЖ –  выбор счастливой  жизни</dc:title>
</cp:coreProperties>
</file>